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F280-9166-42FA-BBBD-83C9424A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E4F3-8E5F-4200-A091-998E35965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7743-658E-4460-857F-DCFC76B80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16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08E6-E4C4-493E-B9E2-B172F29E3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A7FE-9741-491E-A79A-575D6E8287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76A8-E536-4E01-9771-58E1982E82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A85A-FD6A-44DC-A0B0-7C0871B70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4BBA-25F1-4B63-8A83-E23194767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9AD7-C988-45DE-92F1-42F692C9D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320" y="227160"/>
            <a:ext cx="853452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C445-E6A0-45E0-AA69-369343EE1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0700-8164-461E-96B9-25F7EB948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D874-328B-4869-B952-4C01D3B4C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6536-3197-46CB-9A48-BABFC75605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A646-7147-4BD1-82AA-3864B8A12A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0D04-AB99-46E1-9964-716800439B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718C-45C1-43FF-8820-4BF8AE3ACA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62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124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62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124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D581-7614-43EA-B438-405421B66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5E92-6C20-4199-B69B-11D097599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47DC-7F03-455A-AC3F-3EEB29F32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4A01-C26E-4A04-9907-0EAE7A902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1320" y="227160"/>
            <a:ext cx="853452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D646-9F0D-4AAA-99C5-BC771F30B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598C-A380-4348-A310-D1E0A62EE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9A8B-555B-46CF-9258-FBFE26E3D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36E6-33CE-4874-A504-F6D2408D9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Click to edit the outline text format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1" marL="347760" algn="ctr">
              <a:spcBef>
                <a:spcPts val="400"/>
              </a:spcBef>
              <a:buClr>
                <a:srgbClr val="646b86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econd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2" marL="72720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Third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3" marL="1106640" algn="ctr">
              <a:spcBef>
                <a:spcPts val="400"/>
              </a:spcBef>
              <a:buClr>
                <a:srgbClr val="646b86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Four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4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Fif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5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ix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6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even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421160" y="2322360"/>
            <a:ext cx="300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a9798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1A8-4885-49E1-B6C3-206CED438666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lick to edit the title text format</a:t>
            </a: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a9798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950E-9FA3-449A-A252-10D8284A6F8B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09760" indent="-274680">
              <a:spcBef>
                <a:spcPts val="601"/>
              </a:spcBef>
              <a:buClr>
                <a:srgbClr val="ccb400"/>
              </a:buClr>
              <a:buSzPct val="69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8408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58760" indent="-228600">
              <a:spcBef>
                <a:spcPts val="601"/>
              </a:spcBef>
              <a:buClr>
                <a:srgbClr val="8c7b70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33440" indent="-228600">
              <a:spcBef>
                <a:spcPts val="60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3344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3344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8991720" y="144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566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146160" y="6391440"/>
            <a:ext cx="88455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154080" y="2419200"/>
            <a:ext cx="8834400" cy="0"/>
          </a:xfrm>
          <a:prstGeom prst="line">
            <a:avLst/>
          </a:prstGeom>
          <a:ln w="1152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8845560" cy="654696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361040" y="2209680"/>
            <a:ext cx="420480" cy="4194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21160" y="2322360"/>
            <a:ext cx="300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F11-DD1C-47A9-AA57-4A1E85E53733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French Resistance</a:t>
            </a: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1C6-9ECC-4873-89AA-625003A946D0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The Fall</a:t>
            </a:r>
            <a:r>
              <a:rPr b="0" lang="en-US" sz="3300" spc="-1" strike="noStrike">
                <a:solidFill>
                  <a:srgbClr val="7a9798"/>
                </a:solidFill>
                <a:latin typeface="Georgia"/>
                <a:ea typeface="ヒラギノ明朝 ProN W3"/>
              </a:rPr>
              <a:t>	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rmany overcame the French Army with its 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blitzkreig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ct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ance signed an armistice with Germany in June 1940 that gave control of the government 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ance had to pay the German Army to occupy (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maintain military control of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 th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812-1B92-4FE5-99BD-8A28C31BE6C4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The Fallout 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rench economy crashed and people began to get restl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erman Army required French workers to supply them with weapons and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people complained publicly, they were punished harsh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84F2-6BFA-4128-AD65-814B5BA2BB2D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Fighting Back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rench no longer had an army or government le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were not able to defeat and get rid of the German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ever, small groups of French citizens formed a movement called the 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le most French citizens were not active in the Resistance, they made sure not to help the Germans in any w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92BB-AC08-4E58-8613-7519D8FB7073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Fighting Back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stance members destroyed railroad lines and factories and bombed areas where German soldiers would ga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gry German leaders would severely punish anyone even suspected of being involved with the Resistance but attacks continued through 194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French citizens were able to sneak out of France and get to Britain to join the Allied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7E5-4218-4ABE-B26C-81AFCD2DA56F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Results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le they were not able to get rid of the Germans until after D-Day, the Resistance tied up German resources and made it difficult for them to operate effective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ench General Charles de Gaulle was given much credit as the leader of the Resistance, but most of the work was carried out by ordinary French peo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the Allied armies invaded France to recapture it from Germany, their job was made easier by the work of the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th Grade</dc:creator>
  <dc:description/>
  <dc:language>en-US</dc:language>
  <cp:lastModifiedBy/>
  <cp:revision>0</cp:revision>
  <dc:subject/>
  <dc:title>The French Resistance</dc:title>
</cp:coreProperties>
</file>